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720-00C7-4FC7-85FA-A551F4B8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578-CCA9-4D52-9357-4C45A24F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C4C7-7FDE-420C-A0E3-638F496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19353-198C-482D-8923-F172993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4F284-4469-44ED-938A-C28276D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545BF-0753-4E85-AFC5-3EECB5E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74ECA-6003-4719-A531-2FAD2CE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B7B01-380F-455B-9893-AF187A8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57AE-829E-4CF3-9454-FEEFE474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F815C-0DF5-43CF-9764-C0ED71A7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CE98C-0C32-4118-9D17-4E6E4974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A28E9-97E7-43BB-BA57-D4323057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17D-377C-4AF4-93FE-D1475ACE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9B301-0EE6-49E5-BEEF-7B57FB1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95727-B394-4757-94B8-7BBF55D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F51B3-8CFB-419D-9B89-A456C1F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88D51-3371-40EA-8658-BFA17DB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C60C1-9E7D-4A3C-838A-761E543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CC14D-5350-40FB-848D-7EB6D09F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C6554-D1CA-44DF-9B0D-669087B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90EE7-D9B8-4EF8-B21E-738B71C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59A3E-8E7C-43FE-BF73-856E6616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1FF3-DBDE-4489-BC46-249A3E7D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92F-1BCA-4195-85D8-8E3C6917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028BF-F0B7-4318-8062-D9C23C6A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7F360-DF6F-4B60-BFEE-DEDCA506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7B25B-6A0D-4B89-85BB-CAF4488C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AF856-9BC8-4BA7-9978-32ACBF74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5E297-002F-4222-B6A9-FB8BA09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221E-F387-4AC7-8C30-A9C41E6A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4966-6681-45D9-B9E5-07691C4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6B9A1-D0C8-48AA-A928-F44F1BE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539D6-B76B-4548-9864-EDADF47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02F32-8DF5-4EE9-9E89-195E77BF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2C91-AAF7-4668-819E-649D0328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4D40B-D4F6-4E2E-A858-FD341F4D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1754-5AFD-4FCB-A22F-9FE0776B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9009-2ACF-4274-A9E2-D8CCD102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A4CA-5ED2-47A9-A2C9-19DEDE4A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33136-83BF-4C12-869B-283DB043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0BBDE-F5EB-4308-B3D3-3EDE7CE7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D77A9-51D1-4BBA-B8D1-4266E69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08E1-6B95-4AB5-A158-3147B4F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27EFC-69BF-4A99-A04E-5DF45104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61949-0172-49EA-9647-B2AD8478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50A2-D3D0-43F3-8166-456F923F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40035-A0B5-401A-9804-8523DB4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BA26-5116-4204-96A0-1C50EE4C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A8491-F14D-4C4A-A57A-1225EF3E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7DEB2-714F-4A32-A050-A8BD05BB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20AAB-7E6F-46DB-94B9-D545AB82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45A7-8F29-4E35-948D-6146023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8712-5420-454A-804B-3DE86D57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ACB-8334-460C-81F4-3B73ABE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2B8F-9FD1-490F-B34F-115F9763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29E-EB42-4234-AB04-9C7BB4A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ADC-8600-4294-8464-0C4A53C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2228-964F-43C1-8EE5-B743DBF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0BAE-797E-49A4-B9AB-D05EFEE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022-6115-4B78-95E6-5DE1BD8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0880-B6F4-4F2F-AA3E-91E234D4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F9A-EE6B-4BF0-B149-ED032087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718A-BF7D-443A-8D5A-4E96FFAC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D3C8-FEF0-42B8-B5D6-5D1E4A7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15BB-5A3B-4905-9751-DF62F53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018A-179C-4DBB-9696-6297931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0F1E-B778-4250-A0EC-CA9E0D13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B01-998C-4D79-B08B-8FA88882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7CD5-8F13-4AA7-B4FB-06FE07E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B2C1-D84C-4101-81ED-0CD96FD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AD94-3D1D-4275-893E-18906E60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B453-3610-46B9-B84C-EE37BE6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E8D9-E3D6-4B9B-9D49-28D7027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D93F-734B-44E6-936D-0E4102EF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D28A-CC9B-48EB-BBE2-1823C6D7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E07E-8698-4C21-A031-CE0272D8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4A2D-B502-4F06-B557-A8A512C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5D90-A94A-46B3-8F29-B0BFFC72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505-995A-4ACE-836C-9846E93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C08B-E344-401F-A6B7-A398484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859B-2902-4969-AD6D-19ADB28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16B6-B019-4B5B-82E6-42F39AC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1161-8036-446B-AB5F-10DB431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9AD7-83B4-4834-A2BF-FE07684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30654-C7F5-4294-801A-1153FFF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BEE6-E74A-4C01-BD2B-2E7A17E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196A-4623-436A-A85E-67360A14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9910-E86D-4326-A2FC-776613D4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CE4F-3CC7-4760-977E-9D1F765D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E4A-2A2C-430B-87F6-1ED785B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2A2C-E539-4B4D-8F0C-18FD3753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323E-5431-45A4-B187-92885ED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D5CC0-6A6C-4DEF-A949-2E5A5AF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6157-53CD-45D3-9C7A-3805A90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6897-469F-4B27-84B8-F030C20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68D2-D6DB-423C-A0CF-20B9023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CD98-DFB4-40BA-A373-9200A0F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2049D-4804-4AD9-A2B2-F701F6F3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58B9-D782-4D98-AF14-F289764C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C6F4-2C11-4DE3-BB75-A93D2BC1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96A-CDC3-4BA3-9E26-16C2CC1C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5B85-6E44-48FF-A166-0D1C1DF4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5DF1-690E-4CF5-A477-2A9BF8C0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1079-D2B9-4063-8EDA-76E44F0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43BF-F94F-4201-B282-1A31B6B7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104C-DE09-468C-B5B6-678FBFA8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46CA-BDD2-4A8C-9E4F-56A37D8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678E-955A-403E-918C-D471C5C0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DFCF-F064-4E82-B8D8-162108A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E2B4-BEB4-4E98-BCFE-2041E9D4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9A8A5-5EB0-46FC-A273-2C92826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7EC-3039-4677-8C6F-EBC10CC3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7E6B-B4FC-41AE-AB1D-7632C809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14B5-FB94-483D-8AC4-41E8188C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AEE0-8A7E-4D24-8FE4-FCB07E71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245A6-5797-49AF-870D-048DAA77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24D2-1920-4233-85F8-A477C96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1E529-F1A9-44FE-AB04-3A5A3342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069F-5B96-4EC2-988D-910CEB2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DCA0C-C539-4F75-A288-52AEE4A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127D-427D-455D-ADD2-FB1E13E4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1276-69CC-4C47-9305-DCF4EA2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9CB-8251-4124-B693-29CB0A8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D459-39E6-4457-9A4C-72DD12D8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1393-9B62-4417-A686-4A8C85E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BBEB-0FCE-40DB-812C-85B8064C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F147-818A-483D-8D84-50BBF0A2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3F63-3165-439D-9DB0-7A2B62A2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1501-8F6E-4D97-BE89-8F45B29E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D8412-C538-46CC-B71D-60D2430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C666-C60A-414D-8972-8DAB381B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87248-4EEC-4CF2-9A2B-6B19F45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D6C2-78C2-49CB-88F6-FF4EA9DF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EF1-0F77-4227-A583-9BD2C9D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06EF3-F5B3-49B7-9DEC-35EEFE9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A76B-C91D-4E7B-A189-67704F7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4801-43F7-46D0-AA73-1AD54FB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0EAEF-7F3A-4B35-BE27-010562F3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18F8-1564-4E21-A661-C593F0A1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5CA3-A9BF-4BF0-99F9-DDDAC9B2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6EC82-3D2F-405F-B4C4-50AE5F0D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D8C9E-CC8A-4BEB-91FA-E4E6B68D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BD68-75AD-4E63-BE63-AEA3D27F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BF7B9-F470-445D-B666-E5BB84B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3EA3-1E4C-4D92-AA55-944758BB0F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C003-CA0E-4991-B18A-381C45B6F5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58D-EE12-4736-91E8-00A1D5DC097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4401-477D-47F5-9124-1DFAF100872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70C-0EBE-43E8-A1A9-3FBC54B8D0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0EC-E867-4290-AA53-84002D8DA9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A93-9534-4B6E-A02B-BE389EBD6D6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A993-9113-4543-8366-EFB209A3A0B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9D8-A00D-4225-AC2E-6DD7B128C8C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816-2D13-4C8D-AF25-A21B9383C56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859B-5935-4013-9AFA-B1055B47A6C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3500-1D42-44DA-B610-88B3CC7DB4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" descr=""/>
          <p:cNvPicPr/>
          <p:nvPr/>
        </p:nvPicPr>
        <p:blipFill>
          <a:blip r:embed="rId1"/>
          <a:stretch/>
        </p:blipFill>
        <p:spPr>
          <a:xfrm>
            <a:off x="1287360" y="2263680"/>
            <a:ext cx="6496200" cy="39085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150920" y="1101600"/>
            <a:ext cx="676908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7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难忘的泼水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3"/>
          <p:cNvSpPr/>
          <p:nvPr/>
        </p:nvSpPr>
        <p:spPr>
          <a:xfrm>
            <a:off x="900000" y="15876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火红火红的凤凰花开了，傣族人民一年一度的泼水节又到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图片 4" descr=""/>
          <p:cNvPicPr/>
          <p:nvPr/>
        </p:nvPicPr>
        <p:blipFill>
          <a:blip r:embed="rId1"/>
          <a:srcRect l="4279" t="0" r="4436" b="11512"/>
          <a:stretch/>
        </p:blipFill>
        <p:spPr>
          <a:xfrm>
            <a:off x="2411280" y="3319560"/>
            <a:ext cx="4537080" cy="29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3"/>
          <p:cNvSpPr/>
          <p:nvPr/>
        </p:nvSpPr>
        <p:spPr>
          <a:xfrm>
            <a:off x="468360" y="1413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默读课文第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、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然段，把自己读懂的地方和学习伙伴交流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今年的泼水节有什么特别的地方？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傣族人民是怎样欢迎周总理的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cc"/>
                </a:solidFill>
                <a:latin typeface="华文彩云"/>
                <a:ea typeface="华文彩云"/>
              </a:rPr>
              <a:t>阅读提示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1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2414520" cy="2949480"/>
          </a:xfrm>
          <a:prstGeom prst="rect">
            <a:avLst/>
          </a:prstGeom>
          <a:ln w="0">
            <a:noFill/>
          </a:ln>
        </p:spPr>
      </p:pic>
      <p:sp>
        <p:nvSpPr>
          <p:cNvPr id="620" name="矩形 3"/>
          <p:cNvSpPr/>
          <p:nvPr/>
        </p:nvSpPr>
        <p:spPr>
          <a:xfrm>
            <a:off x="2195640" y="1700280"/>
            <a:ext cx="619272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默读课文第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、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5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然段，画出自己认为写得美的语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组合作，互相交流读书的收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cc"/>
                </a:solidFill>
                <a:latin typeface="华文彩云"/>
                <a:ea typeface="华文彩云"/>
              </a:rPr>
              <a:t>阅读提示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2"/>
          <p:cNvSpPr/>
          <p:nvPr/>
        </p:nvSpPr>
        <p:spPr>
          <a:xfrm>
            <a:off x="395280" y="1557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周总理身穿对襟白褂，咖啡色长裤，头上包着一条水红色头巾，笑容满面地来到人群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3" name="图片 5" descr=""/>
          <p:cNvPicPr/>
          <p:nvPr/>
        </p:nvPicPr>
        <p:blipFill>
          <a:blip r:embed="rId1"/>
          <a:srcRect l="4279" t="0" r="4436" b="11512"/>
          <a:stretch/>
        </p:blipFill>
        <p:spPr>
          <a:xfrm>
            <a:off x="4681440" y="1989000"/>
            <a:ext cx="444492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2"/>
          <p:cNvSpPr/>
          <p:nvPr/>
        </p:nvSpPr>
        <p:spPr>
          <a:xfrm>
            <a:off x="539640" y="134136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接过一只象脚鼓，敲着欢乐的鼓点，踩着凤凰花铺成的“地毯”，同傣族人民一起跳舞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5" name="图片 5" descr=""/>
          <p:cNvPicPr/>
          <p:nvPr/>
        </p:nvPicPr>
        <p:blipFill>
          <a:blip r:embed="rId1"/>
          <a:srcRect l="4279" t="0" r="4436" b="11512"/>
          <a:stretch/>
        </p:blipFill>
        <p:spPr>
          <a:xfrm>
            <a:off x="4861080" y="2055960"/>
            <a:ext cx="3987720" cy="39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2"/>
          <p:cNvSpPr/>
          <p:nvPr/>
        </p:nvSpPr>
        <p:spPr>
          <a:xfrm>
            <a:off x="755640" y="1303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开始泼水了。周总理一手端着盛满清水的银碗，一手拿着柏树枝蘸了水，向人们泼洒，为人们祝福。傣族人民一边欢呼，一边向周总理泼水，祝福他健康长寿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7" name="图片 3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43088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1620720" y="12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cc"/>
                </a:solidFill>
                <a:latin typeface="华文彩云"/>
                <a:ea typeface="华文彩云"/>
              </a:rPr>
              <a:t>拓展提升作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755280" y="2400480"/>
            <a:ext cx="77770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查找、搜集周总理的图片、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用学习伙伴的话，引导学生了解我国的民族节日和民间习俗，开个小小介绍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31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56536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5"/>
          <p:cNvSpPr/>
          <p:nvPr/>
        </p:nvSpPr>
        <p:spPr>
          <a:xfrm>
            <a:off x="6028560" y="33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彩云"/>
                <a:ea typeface="华文彩云"/>
              </a:rPr>
              <a:t>初读提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矩形 2"/>
          <p:cNvSpPr/>
          <p:nvPr/>
        </p:nvSpPr>
        <p:spPr>
          <a:xfrm>
            <a:off x="684360" y="1125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5"/>
          <p:cNvSpPr/>
          <p:nvPr/>
        </p:nvSpPr>
        <p:spPr>
          <a:xfrm>
            <a:off x="971640" y="1197000"/>
            <a:ext cx="675000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w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ànɡ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pō        dù       l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ónɡ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忘     泼      度      龙   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ào   chuān   xi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ànɡ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l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ìnɡ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炮    穿      向      令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115640" y="1773360"/>
            <a:ext cx="7272360" cy="360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楷体"/>
                <a:ea typeface="楷体"/>
              </a:rPr>
              <a:t>敲鼓 驶过 笑容 踩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楷体"/>
                <a:ea typeface="楷体"/>
              </a:rPr>
              <a:t>铺上 盛满 银碗 祝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楷体"/>
                <a:ea typeface="楷体"/>
              </a:rPr>
              <a:t>健康 长寿 象脚鼓 凤凰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文讲了件什么事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85640" y="2565000"/>
            <a:ext cx="824544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本文讲了</a:t>
            </a:r>
            <a:r>
              <a:rPr b="0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0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一起过</a:t>
            </a:r>
            <a:r>
              <a:rPr b="0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7" descr="t016776e8f4052c6342.gif"/>
          <p:cNvPicPr/>
          <p:nvPr/>
        </p:nvPicPr>
        <p:blipFill>
          <a:blip r:embed="rId1"/>
          <a:stretch/>
        </p:blipFill>
        <p:spPr>
          <a:xfrm>
            <a:off x="511200" y="378936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516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7" name="Group 29"/>
          <p:cNvGrpSpPr/>
          <p:nvPr/>
        </p:nvGrpSpPr>
        <p:grpSpPr>
          <a:xfrm>
            <a:off x="739800" y="1859040"/>
            <a:ext cx="1503360" cy="1360440"/>
            <a:chOff x="739800" y="1859040"/>
            <a:chExt cx="1503360" cy="1360440"/>
          </a:xfrm>
        </p:grpSpPr>
        <p:sp>
          <p:nvSpPr>
            <p:cNvPr id="518" name="Rectangle 30"/>
            <p:cNvSpPr/>
            <p:nvPr/>
          </p:nvSpPr>
          <p:spPr>
            <a:xfrm>
              <a:off x="14914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9" name="Rectangle 31"/>
            <p:cNvSpPr/>
            <p:nvPr/>
          </p:nvSpPr>
          <p:spPr>
            <a:xfrm>
              <a:off x="7398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0" name="Rectangle 32"/>
            <p:cNvSpPr/>
            <p:nvPr/>
          </p:nvSpPr>
          <p:spPr>
            <a:xfrm>
              <a:off x="14914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1" name="Rectangle 33"/>
            <p:cNvSpPr/>
            <p:nvPr/>
          </p:nvSpPr>
          <p:spPr>
            <a:xfrm>
              <a:off x="7398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Line 34"/>
            <p:cNvSpPr/>
            <p:nvPr/>
          </p:nvSpPr>
          <p:spPr>
            <a:xfrm>
              <a:off x="7398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Line 35"/>
            <p:cNvSpPr/>
            <p:nvPr/>
          </p:nvSpPr>
          <p:spPr>
            <a:xfrm>
              <a:off x="7398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Line 36"/>
            <p:cNvSpPr/>
            <p:nvPr/>
          </p:nvSpPr>
          <p:spPr>
            <a:xfrm>
              <a:off x="7398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Line 37"/>
            <p:cNvSpPr/>
            <p:nvPr/>
          </p:nvSpPr>
          <p:spPr>
            <a:xfrm>
              <a:off x="7398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8"/>
            <p:cNvSpPr/>
            <p:nvPr/>
          </p:nvSpPr>
          <p:spPr>
            <a:xfrm>
              <a:off x="14914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9"/>
            <p:cNvSpPr/>
            <p:nvPr/>
          </p:nvSpPr>
          <p:spPr>
            <a:xfrm>
              <a:off x="2243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8" name="Text Box 40"/>
          <p:cNvSpPr/>
          <p:nvPr/>
        </p:nvSpPr>
        <p:spPr>
          <a:xfrm>
            <a:off x="80496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忘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9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30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0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泼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42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5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2" name="Text Box 40"/>
          <p:cNvSpPr/>
          <p:nvPr/>
        </p:nvSpPr>
        <p:spPr>
          <a:xfrm>
            <a:off x="3916440" y="1749600"/>
            <a:ext cx="151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度 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3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54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4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龙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5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66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7075440" y="17445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炮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7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78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8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穿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90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0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向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1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602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5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2" name="Text Box 40"/>
          <p:cNvSpPr/>
          <p:nvPr/>
        </p:nvSpPr>
        <p:spPr>
          <a:xfrm>
            <a:off x="5495760" y="3649680"/>
            <a:ext cx="1513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令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6"/>
          <p:cNvSpPr/>
          <p:nvPr/>
        </p:nvSpPr>
        <p:spPr>
          <a:xfrm>
            <a:off x="82440" y="1854360"/>
            <a:ext cx="8323200" cy="277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敲鼓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驶过  笑容  踩着  铺上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盛满  银碗  祝福  健康  长寿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25:31Z</dcterms:modified>
  <cp:revision>4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